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media/chimes.wav" ContentType="audio/x-wav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67D0-4579-41D3-8BAE-1A47FA84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8761-2873-4915-8228-01D68DE8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A387-A350-47CF-9680-32D3EF13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0D4A-B2CC-4090-B8D4-A461FF58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ADF4-FAFD-4DD5-A684-EE52A711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070-7211-43E8-A894-62B102F5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AA71-DCCD-49A6-A13E-01B2BE97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71D-EFB2-4C15-BAB3-99F3E43B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7DF4-AECF-41DD-AC86-D7E9D726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0B25-0CC0-4670-8E81-CD5E9C2E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4193-C183-4B80-8B6F-3873AF7F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5E8B-5254-41CE-BAF0-20232C5F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3042-1045-46C5-8BCF-017C91E28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380880"/>
            <a:ext cx="5638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lving Two Step Algebraic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472428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nda O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05320" y="2914560"/>
            <a:ext cx="43434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57600" y="1752480"/>
            <a:ext cx="1371600" cy="1600200"/>
          </a:xfrm>
          <a:prstGeom prst="ellipse">
            <a:avLst/>
          </a:prstGeom>
          <a:solidFill>
            <a:srgbClr val="ffff00">
              <a:alpha val="68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23623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Arial"/>
              </a:rPr>
              <a:t>+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solve if there is more than one ste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590920" y="1828800"/>
                <a:ext cx="38862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228600" y="1295280"/>
            <a:ext cx="1981080" cy="20142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you have to get all the numbers on one side of the equation and all the variables on the oth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2743200"/>
            <a:ext cx="3809880" cy="64260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need to get rid of the -7 by doing the opposite function (+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1752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Arial"/>
              </a:rPr>
              <a:t>+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5053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and rewrite the eq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429000" y="3886200"/>
                <a:ext cx="27255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04920" y="3657600"/>
            <a:ext cx="1752480" cy="11912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do the second step.  Divide both sides b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472428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472428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4572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4648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962520"/>
            <a:ext cx="60984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4724280"/>
            <a:ext cx="60984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5181480"/>
            <a:ext cx="137160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’s c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5867280"/>
            <a:ext cx="228600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rite and s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733920" y="5562720"/>
                <a:ext cx="19144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86200" y="1828800"/>
            <a:ext cx="1066680" cy="1523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62520" y="251460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-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733920" y="3581280"/>
                <a:ext cx="17082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5791320" y="19810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-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666880" y="3962520"/>
                <a:ext cx="9637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486400" y="4038480"/>
                <a:ext cx="9637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809880" y="5486400"/>
                <a:ext cx="14479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2590920" y="34290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and rewrite the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4038480"/>
            <a:ext cx="76176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4648320"/>
            <a:ext cx="76176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4572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’s c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200400" y="1600200"/>
                <a:ext cx="266688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514600" y="1143000"/>
                <a:ext cx="365760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514600" y="22096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+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15238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+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1523880"/>
            <a:ext cx="83808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2286000"/>
            <a:ext cx="83808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657600" y="3219480"/>
                <a:ext cx="190512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2666880" y="35053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5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35053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x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3657600"/>
            <a:ext cx="685800" cy="609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4038480"/>
            <a:ext cx="68580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29000" y="4800600"/>
                <a:ext cx="21337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3429000" y="541008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541008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53341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53341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886200" y="6095880"/>
                <a:ext cx="137160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3276720" y="4876920"/>
            <a:ext cx="60948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5486400"/>
            <a:ext cx="60984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SenteoPPTControl1"/>
          <p:cNvGraphicFramePr/>
          <p:nvPr/>
        </p:nvGraphicFramePr>
        <p:xfrm>
          <a:off x="6350040" y="4699080"/>
          <a:ext cx="27306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SenteoPPTControl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040" y="4699080"/>
                    <a:ext cx="27306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62120" y="457200"/>
                <a:ext cx="7740360" cy="14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0" y="2362320"/>
            <a:ext cx="6019920" cy="3236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step in solving this equa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4 to both sides of th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tract 4 from both sides of th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e both sides of the equation by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y both sides of the equation by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rect! Add 4 to both sides of the equation.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62120" y="1752480"/>
                <a:ext cx="7740360" cy="14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21:26:15Z</dcterms:created>
  <dc:creator>admin</dc:creator>
  <dc:description/>
  <dc:language>en-US</dc:language>
  <cp:lastModifiedBy>admin</cp:lastModifiedBy>
  <dcterms:modified xsi:type="dcterms:W3CDTF">2008-03-21T11:52:23Z</dcterms:modified>
  <cp:revision>10</cp:revision>
  <dc:subject/>
  <dc:title>Solving Two Step Algebraic Equations</dc:title>
</cp:coreProperties>
</file>